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756-D67C-4322-8FBF-21E47AB0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C43-A8D8-45E6-94D5-0BD1397A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A094-679F-408B-81DB-7AF304F7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9AD-8E03-41DE-8A50-E551E0BB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62E-BB9A-49D3-AE43-3AB4A7D8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639-99C7-4966-B774-6C9BB668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2CD-4308-4365-9676-1DCB0B8A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A73-F4B4-467D-B508-C95123F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C70-DA7C-439F-92C5-50E01A69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80D-E942-4A9D-A9C4-7183605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7B9-3FDF-4E3D-A601-3EF7BF47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F20-10AB-4510-8971-4558DED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462-89CC-4957-83A3-59449420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3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ng1023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farmstead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-bennettscastle-farm1930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great-depressio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22:06:09Z</dcterms:created>
  <dc:creator>Steph</dc:creator>
  <dc:description/>
  <dc:language>en-US</dc:language>
  <cp:lastModifiedBy>Stephanie Palmieri</cp:lastModifiedBy>
  <dcterms:modified xsi:type="dcterms:W3CDTF">2010-06-29T01:07:55Z</dcterms:modified>
  <cp:revision>2</cp:revision>
  <dc:subject/>
  <dc:title>1930s </dc:title>
</cp:coreProperties>
</file>